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955-C92D-4181-AB74-0F82F71D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CFC-F68B-4A91-A92A-BF4036D8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816-C6E6-4CAE-8483-81A9CBEE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D34-6AF5-4132-8DC2-3154C0E2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C89-BA88-4DEE-90E0-8CDF5FBF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4CD-0CFB-4E4D-A400-93FE8661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F6E-C4EB-4948-8317-B23EE09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902-E256-4643-8956-74A3CE41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C8B-371A-4BC7-AB4E-AD8CA24B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B39-F326-4B08-8D2D-8080B46B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D27-A91C-40F5-B283-72A9E88F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B70-FF68-4B43-8348-174E13CD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7F5A-8792-4F0F-B859-88B373E8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sh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1080" y="2362320"/>
            <a:ext cx="48006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All About Me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9080" y="1523880"/>
            <a:ext cx="916308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mazing friends and we have an awesome time every time we ar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riends are Halie, Alex, Alyssa, Briana, Brooke, Haley, and Steph. But those are just a fe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826200">
            <a:off x="6019560" y="3809880"/>
            <a:ext cx="2828880" cy="288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468400">
            <a:off x="1676520" y="4114800"/>
            <a:ext cx="26668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025720"/>
            <a:ext cx="8686800" cy="323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205884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Nuff Sai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ccording To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ife is AMAZING!! I have an awesome family and great friends. I am interested in basketball, soccer, and volleyball. I also run. I’m INLOVE with my lif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598400">
            <a:off x="6135480" y="3565080"/>
            <a:ext cx="222228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1:04Z</dcterms:created>
  <dc:creator>CGB</dc:creator>
  <dc:description/>
  <dc:language>en-US</dc:language>
  <cp:lastModifiedBy>CGB</cp:lastModifiedBy>
  <dcterms:modified xsi:type="dcterms:W3CDTF">2008-06-09T13:51:00Z</dcterms:modified>
  <cp:revision>5</cp:revision>
  <dc:subject/>
  <dc:title>Slide 1</dc:title>
</cp:coreProperties>
</file>